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1A76-C926-4A7C-B5BF-E8A9DE084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40753-3B0F-400C-AB14-83150165E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380B-C2DF-4BFF-8D31-746F8B407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8DA9-814C-4688-873F-CECAB5BAA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8E2-759C-4F7A-B9D2-9AD4EB70E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CC7-A85D-4073-B23B-2388334D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121-E4E3-426A-B5E8-C2FBE2E19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245-6761-4164-AF2C-E3E63509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F12C-3689-4F89-9C15-A273AFF5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4D65-1C74-40D1-8E66-F9ED7779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BB6F-B0CF-479A-AFEB-A67BB9E9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FB6-477A-4B95-8961-FF52AEA1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E0E-0A6B-414F-8679-971C15D8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F43-1E2A-4AB9-892A-91834067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3248-9E5D-4CCC-98D2-6121284F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749A-779D-4DD1-A274-4EA05BBF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D408-D32A-4270-92EA-3E07F93D3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slide" Target="slide3.xml"/><Relationship Id="rId8" Type="http://schemas.openxmlformats.org/officeDocument/2006/relationships/slide" Target="slide8.xml"/><Relationship Id="rId9" Type="http://schemas.openxmlformats.org/officeDocument/2006/relationships/slide" Target="slide13.xml"/><Relationship Id="rId10" Type="http://schemas.openxmlformats.org/officeDocument/2006/relationships/slide" Target="slide18.xml"/><Relationship Id="rId11" Type="http://schemas.openxmlformats.org/officeDocument/2006/relationships/slide" Target="slide23.xml"/><Relationship Id="rId12" Type="http://schemas.openxmlformats.org/officeDocument/2006/relationships/slide" Target="slide4.xml"/><Relationship Id="rId13" Type="http://schemas.openxmlformats.org/officeDocument/2006/relationships/slide" Target="slide9.xml"/><Relationship Id="rId14" Type="http://schemas.openxmlformats.org/officeDocument/2006/relationships/slide" Target="slide14.xml"/><Relationship Id="rId15" Type="http://schemas.openxmlformats.org/officeDocument/2006/relationships/slide" Target="slide19.xml"/><Relationship Id="rId16" Type="http://schemas.openxmlformats.org/officeDocument/2006/relationships/slide" Target="slide24.xml"/><Relationship Id="rId17" Type="http://schemas.openxmlformats.org/officeDocument/2006/relationships/slide" Target="slide5.xml"/><Relationship Id="rId18" Type="http://schemas.openxmlformats.org/officeDocument/2006/relationships/slide" Target="slide10.xml"/><Relationship Id="rId19" Type="http://schemas.openxmlformats.org/officeDocument/2006/relationships/slide" Target="slide15.xml"/><Relationship Id="rId20" Type="http://schemas.openxmlformats.org/officeDocument/2006/relationships/slide" Target="slide20.xml"/><Relationship Id="rId21" Type="http://schemas.openxmlformats.org/officeDocument/2006/relationships/slide" Target="slide25.xml"/><Relationship Id="rId22" Type="http://schemas.openxmlformats.org/officeDocument/2006/relationships/slide" Target="slide6.xml"/><Relationship Id="rId23" Type="http://schemas.openxmlformats.org/officeDocument/2006/relationships/slide" Target="slide11.xml"/><Relationship Id="rId24" Type="http://schemas.openxmlformats.org/officeDocument/2006/relationships/slide" Target="slide16.xml"/><Relationship Id="rId25" Type="http://schemas.openxmlformats.org/officeDocument/2006/relationships/slide" Target="slide21.xml"/><Relationship Id="rId26" Type="http://schemas.openxmlformats.org/officeDocument/2006/relationships/slide" Target="slide26.xml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60" descr="mels_question_md_blk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bje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j/Adv Cla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N or 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bje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rb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6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Picture 162" descr="ReverseLogo"/>
          <p:cNvPicPr/>
          <p:nvPr/>
        </p:nvPicPr>
        <p:blipFill>
          <a:blip r:embed="rId27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2209680" y="1752480"/>
            <a:ext cx="541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person whom the police arrested turned out to be innoc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2209680" y="17524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washer will stop if the door is open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209680" y="17524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patient grows stronger every 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2209680" y="175248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color of that blouse is unbecom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209680" y="1752480"/>
            <a:ext cx="4724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executive remained an officer even after her retir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447920" y="1752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Tigers are the team to be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1066680" y="175248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singer appeared nervous before the concer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2209680" y="17524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hyllis’ parents brought her a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 cupcake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209680" y="175248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arren gav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he teacher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is first draft this mor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209680" y="17524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as anyone given the dog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a bath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is wee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209680" y="1752480"/>
            <a:ext cx="609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everal members of that family have served in the milit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209680" y="175248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famous chef served the guests an elegant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me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2209680" y="175248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campers gave th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bear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some hone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240280" y="1752480"/>
            <a:ext cx="64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Moving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is always troubleso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2209680" y="17524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sitter soothed the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frightened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chi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209680" y="17524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n Davy’s dream, he rode on a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flying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carp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1600200" y="144792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I helped Phi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to rake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yar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178000" y="1752480"/>
            <a:ext cx="50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he was silly for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running.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purple_md_blk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209680" y="175248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earchlights from the rescue ships flashed across the w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209680" y="17524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hilip or his brother will surely help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209680" y="1752480"/>
            <a:ext cx="510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utside my bedroom window blooms a beautiful lilac bu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209680" y="17524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Here comes the President’s helicop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209680" y="190512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o one may enter the studio while the red light is 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209680" y="175248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pictures came out badly because the lighting was po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209680" y="17524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Dad needs a secretary who can speak Portugue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purple_md_blk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21:23:54Z</dcterms:created>
  <dc:creator>Philip Bigler</dc:creator>
  <dc:description/>
  <dc:language>en-US</dc:language>
  <cp:lastModifiedBy>Katie Hausauer</cp:lastModifiedBy>
  <dcterms:modified xsi:type="dcterms:W3CDTF">2013-11-20T19:34:48Z</dcterms:modified>
  <cp:revision>7</cp:revision>
  <dc:subject/>
  <dc:title>Slide 1</dc:title>
</cp:coreProperties>
</file>